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7411-52FE-4062-BA6F-A035AECC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48D7-0551-4646-BF96-AEF57A7E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AD45-3260-4B27-A75A-19FD4C6B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886D-1B64-4D5A-BCB3-EC6CDF9C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2B84-3CF2-4624-9EB3-58FF2DB1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FA93-E478-4F98-A8C2-9D4259FC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39D6-F359-411D-9A4E-A957A2D0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830C-E8C9-47B5-A53C-A6F48840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63A6-0CCF-4175-9A97-523A6FAC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064E-744B-492B-ADA2-51FA533E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E8D5-A2F2-498E-AAF3-828F8935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EEBD-8E8C-4D78-882B-6079701D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766C-E8E9-4C24-B511-9A0E375B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324E-5306-491D-B012-5D70D3E7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BB7D-EF5C-4F23-9ECD-8622B31D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1D3A-FBD3-4115-BC81-4DB95035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B635-8AB6-4764-98AD-E9168853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9A1F-E4C4-408E-9AD5-A976EADF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A926-4FA1-444E-809F-F1B5D07D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3747-FC08-495A-B7C7-5A2FF23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A71F-0BEB-43A0-9CAA-D5BC0A7C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82D7-ED7C-4CC6-B780-A88B771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9F6D-598A-44A1-9C02-1C370660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7279-6A36-4D9D-8787-9F51B4DE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02D0-146A-4241-9A75-338C1BC384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FCF4-2329-4264-8C15-BC668AD847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player.discoveryeducation.com/index.cfm?guidAssetId=076F4228-61B4-45BF-A6C4-FDD76EC0B4A2&amp;blnFromSearch=1&amp;productcode=US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. Scott Fitzgerald:  Fame, Jazz, and Gatsb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. Wol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1752840" cy="21812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095880" y="419112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 Epiphan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couldn’t write while drink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ly 1923, he went into seclusion to 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Great Gatsb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ublished in 19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in ten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greatest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The Great Gatsby cl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Downward Spir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wrote for popular magazines to maintain their lavish life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d from NY to Long Island, to Paris, to the Riviera, back to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lda was unhappy and in 1930 had a break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would be in and out of sanatoriums for the rest of her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ruggle to surviv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o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nder is the 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 about parties at the Riv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me a scriptwriter for MG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an nove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Last Tyco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19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d of a heart attack on December 21, 19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4648320" y="1828800"/>
            <a:ext cx="4114800" cy="464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two sides of Fitzgeral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the life of the rich as someone who  had lit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ipl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Zelda more than any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the dazzling life of parties, gaiety, and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ted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ted the falseness, hypocrisy, and cruelty of rich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self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ted Zelda for corrupting his tal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him knew that his life was a s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2438280"/>
            <a:ext cx="519120" cy="486000"/>
          </a:xfrm>
          <a:prstGeom prst="rightArrow">
            <a:avLst>
              <a:gd name="adj1" fmla="val 50000"/>
              <a:gd name="adj2" fmla="val 26704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267080" y="1676520"/>
            <a:ext cx="519120" cy="485640"/>
          </a:xfrm>
          <a:prstGeom prst="rightArrow">
            <a:avLst>
              <a:gd name="adj1" fmla="val 50000"/>
              <a:gd name="adj2" fmla="val 2672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3352680"/>
            <a:ext cx="519120" cy="486000"/>
          </a:xfrm>
          <a:prstGeom prst="rightArrow">
            <a:avLst>
              <a:gd name="adj1" fmla="val 50000"/>
              <a:gd name="adj2" fmla="val 26704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3962520"/>
            <a:ext cx="519120" cy="485640"/>
          </a:xfrm>
          <a:prstGeom prst="rightArrow">
            <a:avLst>
              <a:gd name="adj1" fmla="val 50000"/>
              <a:gd name="adj2" fmla="val 26723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4800600"/>
            <a:ext cx="519120" cy="485640"/>
          </a:xfrm>
          <a:prstGeom prst="rightArrow">
            <a:avLst>
              <a:gd name="adj1" fmla="val 50000"/>
              <a:gd name="adj2" fmla="val 26723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The Great Gatsb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k Carraway and Jay Gatsby are the two sides of Fitzgera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k – intelligent and disciplined ob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sby – passionate and idealistic dream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lda and Dai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ve at first sight (Scott and Gatsb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sby’s love for Daisy created trage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tzgerald’s love for Zelda took up hi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hildhoo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in 1896 in St. Paul, Minnes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ly ambitious family but no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other’s father, P.F. McQuallan, was a self made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zgerald named after Francis Scott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4724280" y="1676520"/>
            <a:ext cx="373392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oe Colle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zgerald attended Princeton after failing the admissions test tw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17, he quit and enlisted in the Army, stationed at Camp Sherid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 Zelda Sayre, a spoiled Southern Be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1447920" y="2057400"/>
            <a:ext cx="238896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ter Zel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ed to marry Zelda in 1917 but she de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had no money or care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quently, he went off to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19 he returned but Zelda still refused to marry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1920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side of Parad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itzgerald's first novel, made him f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lda agreed to marry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5867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tzgerald and Zel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6"/>
          <a:srcRect l="14295" t="-1569" r="14295" b="14528"/>
          <a:stretch/>
        </p:blipFill>
        <p:spPr>
          <a:xfrm>
            <a:off x="3505320" y="4495680"/>
            <a:ext cx="190476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itzgerald =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otoriou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lda and Scott became the most notorious couple in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ushered in The Jazz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5081760" y="175248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68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68" fill="hold"/>
                                        <p:tgtEl>
                                          <p:spTgt spid="5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68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68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Jazz 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1918 – stock market crash of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morals, manners, clothing style, music, social cus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bellion against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th had seen death (WWI) and wanted to have f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952880" y="1905120"/>
            <a:ext cx="3505320" cy="441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hange, change, chan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ins to saxo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s wen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smo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and women drank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cocktail parties were c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685800" y="1447920"/>
            <a:ext cx="2805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df391d"/>
                </a:solidFill>
                <a:latin typeface="Arial"/>
              </a:rPr>
              <a:t>Wild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31bf45"/>
                </a:solidFill>
                <a:latin typeface="Arial"/>
              </a:rPr>
              <a:t>Crazy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Fitzgeral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de down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venue on the tops of t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ve into the fountain in front of the Plaza Ho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fought waiters, Zelda danced on table 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nk too much and passed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ve recklessly and had wild weeken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8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wo things Scott wanted m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a great wri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Zelda hap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everything in his power to make her hap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crificed his writing for her happ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4495680"/>
            <a:ext cx="2266920" cy="1905120"/>
          </a:xfrm>
          <a:custGeom>
            <a:avLst/>
            <a:gdLst>
              <a:gd name="textAreaLeft" fmla="*/ 532800 w 2266920"/>
              <a:gd name="textAreaRight" fmla="*/ 1732680 w 2266920"/>
              <a:gd name="textAreaTop" fmla="*/ 223920 h 1905120"/>
              <a:gd name="textAreaBottom" fmla="*/ 1195200 h 1905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5:08:31Z</dcterms:created>
  <dc:creator>Stacy Crist</dc:creator>
  <dc:description/>
  <dc:language>en-US</dc:language>
  <cp:lastModifiedBy>Ms. Wolfe</cp:lastModifiedBy>
  <dcterms:modified xsi:type="dcterms:W3CDTF">2009-09-28T14:09:49Z</dcterms:modified>
  <cp:revision>9</cp:revision>
  <dc:subject/>
  <dc:title>F. Scott Fitzgerald:  Fame, Jazz, and Drink</dc:title>
</cp:coreProperties>
</file>